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C4991-B6D5-405F-9DFC-3F8633A06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6C471-F6A7-4438-AC49-D2A85FDCE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63DF5-B2BD-4936-8BFD-EA7833675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C0447-495D-4B78-837B-E61341E6A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A57DC5-BCFE-41E6-876A-03A86EE4BC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8FD67-6C25-4EDC-9843-18861BD22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E2713-A3AB-43E9-8C5E-AFA956F07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46C66-A33E-4175-8A9D-D6B8124D4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EBB8C-4509-4F87-A321-93AD7117C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AA41E-7E20-4EE6-BD4E-BB328067F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B2C28-59D9-4966-9142-A540659A4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2E25D-5F91-4683-93EB-2967FE233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C53FF-1380-434F-AF7F-0581F74D4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88D24-05E8-45DB-BA3C-5B2DF6CCD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73E8F-649D-4C49-9B67-8DAF6451F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F6B2B-4DA0-4A81-B2AA-10F7BF820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40643-9C8F-4EF1-9BD9-862AE5D83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EF808-A708-4768-A160-4D6ED9371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54CB1-97CB-4869-A110-B45223601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D94E8-3560-4EF9-BDD3-E01EF1FA9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C2E78-7BE5-4550-A836-8B25FF9F7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A887D-B357-4A11-92E1-82AB09EE0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920D8-88EB-4117-BCD6-B7B64A4E6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EE614-86F3-4823-8C59-9BE3221E5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18FC-6798-43EB-BEA0-7C856253C5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0BB9-E59F-495E-986C-E421CE5EE8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tch-Then-Plan Video Planning Templa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t Tip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alk slowly and clearly</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enthusiastic</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actice, Practice and Practice</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lax and have fu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This Template</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use this template, read then delete all of the slides that have a black background.  Complete the slides that have a blue backgrou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Entrepreneurship</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oing</a:t>
            </a:r>
            <a:r>
              <a:rPr b="0" lang="en-US" sz="2800" spc="-1" strike="noStrike">
                <a:solidFill>
                  <a:srgbClr val="ffffff"/>
                </a:solidFill>
                <a:latin typeface="Times New Roman"/>
              </a:rPr>
              <a:t>, not learning to do, is the essence of entrepreneursh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no one ever achieved success by </a:t>
            </a:r>
            <a:r>
              <a:rPr b="0" i="1" lang="en-US" sz="2800" spc="-1" strike="noStrike">
                <a:solidFill>
                  <a:srgbClr val="ffffff"/>
                </a:solidFill>
                <a:latin typeface="Times New Roman"/>
              </a:rPr>
              <a:t>planning</a:t>
            </a:r>
            <a:r>
              <a:rPr b="0" lang="en-US" sz="2800" spc="-1" strike="noStrike">
                <a:solidFill>
                  <a:srgbClr val="ffffff"/>
                </a:solidFill>
                <a:latin typeface="Times New Roman"/>
              </a:rPr>
              <a:t> for gol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rdest thing about getting started is </a:t>
            </a:r>
            <a:r>
              <a:rPr b="0" lang="en-US" sz="2800" spc="-1" strike="noStrike" u="sng">
                <a:solidFill>
                  <a:srgbClr val="ffffff"/>
                </a:solidFill>
                <a:uFillTx/>
                <a:latin typeface="Times New Roman"/>
              </a:rPr>
              <a:t>getting</a:t>
            </a:r>
            <a:r>
              <a:rPr b="0" lang="en-US" sz="2800" spc="-1" strike="noStrike">
                <a:solidFill>
                  <a:srgbClr val="ffffff"/>
                </a:solidFill>
                <a:latin typeface="Times New Roman"/>
              </a:rPr>
              <a:t> </a:t>
            </a:r>
            <a:r>
              <a:rPr b="0" lang="en-US" sz="2800" spc="-1" strike="noStrike" u="sng">
                <a:solidFill>
                  <a:srgbClr val="ffffff"/>
                </a:solidFill>
                <a:uFillTx/>
                <a:latin typeface="Times New Roman"/>
              </a:rPr>
              <a:t>started</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n (emerging) entrepreneur, you should always be selling—not strategizing about sell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per Proces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row together a pitch that contains the slides presented in this template.</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y it out on some mentors, friends, and relatives.  Do this about ten times.</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t the team together in a room and discuss what you have learned.</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x the pitch.</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art writing the scrip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lain Your Movie in The First Minute</a:t>
            </a:r>
            <a:endParaRPr b="0" lang="en-US" sz="36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has a presentation been given where the audience has said to itself, </a:t>
            </a:r>
            <a:r>
              <a:rPr b="0" i="1" lang="en-US" sz="2800" spc="-1" strike="noStrike">
                <a:solidFill>
                  <a:srgbClr val="ffffff"/>
                </a:solidFill>
                <a:latin typeface="Times New Roman"/>
              </a:rPr>
              <a:t>I wish the speaker had spent the first fifteen minutes explaining his life stor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you</a:t>
            </a:r>
            <a:r>
              <a:rPr b="0" lang="ja-JP" sz="2800" spc="-1" strike="noStrike">
                <a:solidFill>
                  <a:srgbClr val="ffffff"/>
                </a:solidFill>
                <a:latin typeface="Times New Roman"/>
              </a:rPr>
              <a:t>’</a:t>
            </a:r>
            <a:r>
              <a:rPr b="0" lang="en-US" sz="2800" spc="-1" strike="noStrike">
                <a:solidFill>
                  <a:srgbClr val="ffffff"/>
                </a:solidFill>
                <a:latin typeface="Times New Roman"/>
              </a:rPr>
              <a:t>re busy warming up, your listeners are inevitably wondering, </a:t>
            </a:r>
            <a:r>
              <a:rPr b="0" i="1" lang="en-US" sz="2800" spc="-1" strike="noStrike">
                <a:solidFill>
                  <a:srgbClr val="ffffff"/>
                </a:solidFill>
                <a:latin typeface="Times New Roman"/>
              </a:rPr>
              <a:t>is your movie abou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everyone a favor:  Answer that question in the </a:t>
            </a:r>
            <a:r>
              <a:rPr b="0" lang="en-US" sz="2800" spc="-1" strike="noStrike" u="sng">
                <a:solidFill>
                  <a:srgbClr val="ffffff"/>
                </a:solidFill>
                <a:uFillTx/>
                <a:latin typeface="Times New Roman"/>
              </a:rPr>
              <a:t>first minute</a:t>
            </a:r>
            <a:r>
              <a:rPr b="0" lang="en-US" sz="2800" spc="-1" strike="noStrike">
                <a:solidFill>
                  <a:srgbClr val="ffffff"/>
                </a:solidFill>
                <a:latin typeface="Times New Roman"/>
              </a:rPr>
              <a:t>.  Once the audience has learned what you do, they can listen to everything else with a more focused perspec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371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llying </a:t>
            </a:r>
            <a:endParaRPr b="0" lang="en-US" sz="4400" spc="-1" strike="noStrike">
              <a:solidFill>
                <a:srgbClr val="ffcc66"/>
              </a:solidFill>
              <a:latin typeface="Arial"/>
            </a:endParaRPr>
          </a:p>
        </p:txBody>
      </p:sp>
      <p:sp>
        <p:nvSpPr>
          <p:cNvPr id="98" name="PlaceHolder 2"/>
          <p:cNvSpPr>
            <a:spLocks noGrp="1"/>
          </p:cNvSpPr>
          <p:nvPr>
            <p:ph type="subTitle"/>
          </p:nvPr>
        </p:nvSpPr>
        <p:spPr>
          <a:xfrm>
            <a:off x="0" y="3123720"/>
            <a:ext cx="9144000" cy="25909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id Lopez</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er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987F-2970-431E-B116-ED23E564F6D3}" type="datetime2">
              <a:rPr b="0" lang="en-US" sz="3200" spc="-1" strike="noStrike">
                <a:solidFill>
                  <a:srgbClr val="ffffff"/>
                </a:solidFill>
                <a:latin typeface="Times New Roman"/>
              </a:rPr>
              <a:t>Thursday, July 30, 2026</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urpose of my movie tell the reader that bullying is happening at school everyday and somehow bullying needs to be stopped way way bullying can be stopped is telling the teacher or taking a stan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y to personalize the pitch.</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 Your Idea</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a great story tell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ree act structure </a:t>
            </a:r>
            <a:r>
              <a:rPr b="0" lang="en-US" sz="2800" spc="-1" strike="noStrike">
                <a:solidFill>
                  <a:srgbClr val="ffffff"/>
                </a:solidFill>
                <a:latin typeface="Times New Roman"/>
              </a:rPr>
              <a:t>is very familiar for fiction.</a:t>
            </a:r>
            <a:endParaRPr b="0" lang="en-US" sz="28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 A kid gets bullied in the beginning of the movie and and getting his feelings hurt.</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I: later another kid see the the kid that was getting bullied and goes tell a teacher.</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II: when tells the teacher they both go where the boy is getting bullied, then the bullying stop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siness Model</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how you make money:  who will see your movi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ill your movie be special and differen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will make money by asking my friends, and my family and I think my movie might be special and different by letting my friends and my family know that bullying can be a problem, and we can stop it by taking a stand and telling a teach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20:50:12Z</dcterms:created>
  <dc:creator/>
  <dc:description/>
  <dc:language>en-US</dc:language>
  <cp:lastModifiedBy>City School</cp:lastModifiedBy>
  <dcterms:modified xsi:type="dcterms:W3CDTF">2013-02-19T21:27:03Z</dcterms:modified>
  <cp:revision>39</cp:revision>
  <dc:subject/>
  <dc:title>The Pitch-Then-Plan Business Planning Template</dc:title>
</cp:coreProperties>
</file>